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674-29A7-4802-A8C2-0EE53354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3C9-219F-4ED3-B5D4-6F45DEC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145-5ADE-4DAB-98B0-96B53322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3FE-0FEC-45B0-9EEA-CDAB58A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ECA-7EE4-4AF4-8364-2E909AF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93B-639F-4A4E-A071-C419566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C5B-9C2E-4822-9AD0-4C98D97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FA8-FD7B-443A-A208-FF3ACA0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3DA-E8E4-4376-80CA-26D055D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777-3A3D-484B-9B15-35FAC81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7CB-16FA-4262-B436-E4A8C25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0CF-4A9D-487D-B5C0-3EBD48E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14C-529B-41E2-A251-5CE7EB5D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owing Up or Grown Up with Cystic Fibrosis: 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els of Care in Transition to Adulth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Brager MD, FRC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M Sympo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2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bout transition, median age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 process ca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-appropriate preventiv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ting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u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manage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cLaughlin 7"/>
          <p:cNvPicPr/>
          <p:nvPr/>
        </p:nvPicPr>
        <p:blipFill>
          <a:blip r:embed="rId1"/>
          <a:stretch/>
        </p:blipFill>
        <p:spPr>
          <a:xfrm>
            <a:off x="1403280" y="1484280"/>
            <a:ext cx="6481800" cy="5111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42920" y="189000"/>
            <a:ext cx="698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Tuchman 4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510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835280" y="189000"/>
            <a:ext cx="55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ages from Erikson Psychosocial Crisis summary"/>
          <p:cNvPicPr/>
          <p:nvPr/>
        </p:nvPicPr>
        <p:blipFill>
          <a:blip r:embed="rId1"/>
          <a:stretch/>
        </p:blipFill>
        <p:spPr>
          <a:xfrm>
            <a:off x="838080" y="765000"/>
            <a:ext cx="7467840" cy="5559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33520" y="6276960"/>
            <a:ext cx="899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g, A. and Meng, H. Jan. 27, 2006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rik Erikson’s Stages of Psychosocial Development – Summary Chart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rieved August 24, 200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www.vtaide.com/png/Erikson.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rikson’s Stages of Psychosocial Developm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rikson Psychosocial Crisis summary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09480" y="627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g, A. and Meng, H. Jan. 27, 2006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rik Erikson’s Stages of Psychosocial Development – Summary Chart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rieved August 24, 200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www.vtaide.com/png/Erikson.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rikson’s Stages of Psychosocial Developm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zant of developmental 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development with respect to psychosocial c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 vs. Identity Confusion (too late? better during Industry vs. Inferio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acy vs.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ivity vs. Stagnation (trans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, developmentally appropriate introduction for patient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ized programs likely have benefit but tend to be more si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for some aspects of transition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autosomal recessive fatal gene, chromosom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1 % DF508 or DI507, 95% Cauca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3600 children born in Canada have 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age of diagnosis 3.5 y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age of survival in Canada 37 years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00 individuals attend CF Clinics (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50%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ifestations and Comp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nchiec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eumotho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nour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Disease Manifestations and Comp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tility (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has at least doubled over the past 2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therapy/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maceu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ychiatric conditions in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 – MDD, BDD, Substance in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problems and occupational (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 disorder (CF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adherance to medic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facto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Low incidence of psychotic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s in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 to adult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 Clinic to Transplant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lant Clinic to CF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to Adult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F mandated adult care models and transition for patients over 21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 is defined “the purposeful, planned movement of adolescents and young adults with chronic physical and medical conditions from child-centered to adult-oriented health care syste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age of transition 19y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Activities 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readines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services/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and preventativ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8:55:14Z</dcterms:created>
  <dc:creator>ITS</dc:creator>
  <dc:description/>
  <dc:language>en-US</dc:language>
  <cp:lastModifiedBy>Peter</cp:lastModifiedBy>
  <dcterms:modified xsi:type="dcterms:W3CDTF">2009-11-04T10:00:4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